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9A9-A1B6-4D80-BBDC-F8DAADB1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4F0-12D5-4586-8A28-F7778601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31A-3CF9-4798-84EC-A690B12C2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17A4-DE55-4B9F-A1B1-16B200EB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1CF4-3FE8-434F-9C69-205542F4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EE51-B7B6-4972-9057-50294373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8D47-2B91-4690-9FD0-DBBD5E6D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6B6F-AEC5-4738-9475-9FD2C65D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C3CF-899C-4633-8E30-E9CD0297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6C3C-50FB-45C6-9AD7-2BD5FEA2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FDB5-E555-4DA3-90E6-D21573F9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3C5-05C3-44F3-B358-E5C7C098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929B-ECE7-4DBD-A326-061ECA0F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8A84-1352-46FC-80A5-B9A6F54A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C43A-A3AB-4266-8647-15736F9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2A5F-647F-4CF8-AA75-E475394D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9E5F-49EA-406B-B116-B89E71F4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6267-55D7-4AA1-80C1-E33DBECF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55A5-E7E2-4E1C-97B5-782E4967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F5F-5C0A-4A55-A9CB-8ABDBE24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F99D-605D-4E12-864D-2CD1FD9B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4A7-76FB-4311-B156-E9BEC415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4DC-FC46-4EBA-ADE4-6CC74B54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E685-7EAC-404A-83DD-ED4B4F0D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8F67F-0EAA-45B3-B2A7-09CADE92BCBD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1398C-C4B2-4F9B-86C4-DCCA76A9CE3D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E8B67-4929-4180-9063-B22B38729713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7B7EA-2E7F-42F4-AB94-E85A3681C158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ills (aquatic specie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rachea  (terrestrial insect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ook lungs  (arachnid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4114800" cy="502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952880" y="762120"/>
            <a:ext cx="3810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rthropod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1066680" y="1752480"/>
            <a:ext cx="67820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ilater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oskelet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uscles (swim, crawl, fly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mall anterior brain with ventral nerve cord &amp; gangli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 separate sexes with internal fertiliz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lete digestive tract with specialized regions (mouth, pharynx, etc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pen system with dorsal heart &amp; blood vesse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lphigian tubules (insects &amp; arachnid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reen gland (crustacean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0:17:18Z</dcterms:created>
  <dc:creator>Keith or Sherri Holmgren</dc:creator>
  <dc:description/>
  <dc:language>en-US</dc:language>
  <cp:lastModifiedBy>NHS NPS</cp:lastModifiedBy>
  <dcterms:modified xsi:type="dcterms:W3CDTF">2012-05-15T14:18:49Z</dcterms:modified>
  <cp:revision>9</cp:revision>
  <dc:subject/>
  <dc:title>Animal Phyla Chart</dc:title>
</cp:coreProperties>
</file>